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D9A-433C-41EC-81AE-E7B5FB24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3DA-26F7-4929-BD10-3861CC8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BEC-F8C9-4D88-A613-9B354335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65D-206D-4BBD-A2F6-61BB3DED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358-DED5-4BAE-9314-AB13FA9D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8839-52DE-411D-A46A-464BD79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CB4-3463-4833-902F-7EE854CC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A95-2D25-44B6-BA8F-3AD0554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DBE3-4D56-4196-9DD7-2FA4669E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E9F7-C54F-4D2E-8A0A-CB8BC0F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777-A5CC-474E-991C-79F6628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F87-D03B-4E3B-B90B-64444C39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2420-20FA-46B3-A158-5646DC8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464C-15B6-4509-B116-BDAE055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4CEE-4EC3-44E5-A896-F8764F5D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E5E-4DCD-491D-A1B6-C8DEB23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F3B-936D-4E51-85C1-1A23FB4B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0D5-1F2D-4732-B8FE-52C8550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9BC-8A71-494D-97BA-B0B63218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774-AF0B-4981-A692-C9AFDC06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032-018A-4B1F-BF34-0654A4A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140-AD28-4D8B-B115-D4C2CF0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415-FC53-4AAB-92E8-3C0D8B7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E9E-04F7-458F-A5A6-0DB8F7F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06A1-FBE1-40BC-B9C0-8C76F5DAC1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286-9CA8-4616-8D52-85103422A0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335e"/>
            </a:gs>
            <a:gs pos="100000">
              <a:srgbClr val="ff8a0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7a7"/>
                </a:solidFill>
                <a:latin typeface="Monotype Corsiva"/>
              </a:rPr>
              <a:t>Women’s Rights    Speeche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52120" y="3504960"/>
            <a:ext cx="67820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5"/>
                </a:solidFill>
                <a:latin typeface="Comic Sans MS"/>
              </a:rPr>
              <a:t>By: Veronica Plischke, Olivia Green,            Christina Hanlin and Evan Ri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09480" y="259092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e8e8e"/>
                    </a:gs>
                    <a:gs pos="100000">
                      <a:srgbClr val="edfee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 We've Been Great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e8e8e"/>
                  </a:gs>
                  <a:gs pos="100000">
                    <a:srgbClr val="edfee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bdf6"/>
            </a:gs>
            <a:gs pos="50000">
              <a:srgbClr val="82f2d7"/>
            </a:gs>
            <a:gs pos="100000">
              <a:srgbClr val="8abdf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2144f"/>
                </a:solidFill>
                <a:latin typeface="Comic Sans MS"/>
              </a:rPr>
              <a:t>Ain’t I A Woma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5d7d"/>
                </a:solidFill>
                <a:latin typeface="Comic Sans MS"/>
              </a:rPr>
              <a:t>              </a:t>
            </a:r>
            <a:r>
              <a:rPr b="0" lang="en-US" sz="3600" spc="-1" strike="noStrike">
                <a:solidFill>
                  <a:srgbClr val="f15d7d"/>
                </a:solidFill>
                <a:latin typeface="Comic Sans MS"/>
              </a:rPr>
              <a:t>By: Sojourner Tru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9c7"/>
            </a:gs>
            <a:gs pos="50000">
              <a:srgbClr val="f15d7d"/>
            </a:gs>
            <a:gs pos="100000">
              <a:srgbClr val="f9b9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ed73"/>
                </a:solidFill>
                <a:latin typeface="Comic Sans MS"/>
              </a:rPr>
              <a:t>Objective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at is “Ain’t I A Woman” ab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y is it important that she spoke mostly to wome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at other types of people could have been in the aud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is important about Sojourner Truth’s backgroun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is she talking abou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other issues are importan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bafe"/>
            </a:gs>
            <a:gs pos="50000">
              <a:srgbClr val="ad5efc"/>
            </a:gs>
            <a:gs pos="100000">
              <a:srgbClr val="dcba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a700"/>
                </a:solidFill>
                <a:latin typeface="Comic Sans MS"/>
              </a:rPr>
              <a:t>Rhetorical Devic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E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Pa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Lo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Allu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Rhetorical Ques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Anap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3b"/>
            </a:gs>
            <a:gs pos="100000">
              <a:srgbClr val="fff38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aaf3"/>
                </a:solidFill>
                <a:latin typeface="Comic Sans MS"/>
              </a:rPr>
              <a:t>After Being Convicted of Voting In the 1872 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7040" y="320040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cbf8"/>
                </a:solidFill>
                <a:latin typeface="Comic Sans MS"/>
              </a:rPr>
              <a:t>By: Susan B. Anthon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bjective Ques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this speech mainly ab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the main audience of the speech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important about Susan B. Anthon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is it important that a woman gave this speech rather than a ma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she talking abou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she prove her poin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7ffd"/>
            </a:gs>
            <a:gs pos="100000">
              <a:srgbClr val="ff6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fc4"/>
                </a:solidFill>
                <a:latin typeface="Comic Sans MS"/>
              </a:rPr>
              <a:t>Rhetorical Devic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14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E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Patho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Lo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Anap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Polysynde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Repet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16:06Z</dcterms:created>
  <dc:creator>J Plischke</dc:creator>
  <dc:description/>
  <dc:language>en-US</dc:language>
  <cp:lastModifiedBy>J Plischke</cp:lastModifiedBy>
  <dcterms:modified xsi:type="dcterms:W3CDTF">2008-04-16T03:12:47Z</dcterms:modified>
  <cp:revision>7</cp:revision>
  <dc:subject/>
  <dc:title>Women’s Rights    Speeches</dc:title>
</cp:coreProperties>
</file>